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9.jpeg" ContentType="image/jpeg"/>
  <Override PartName="/ppt/media/image11.jpeg" ContentType="image/jpeg"/>
  <Override PartName="/ppt/media/image5.gif" ContentType="image/gif"/>
  <Override PartName="/ppt/media/image31.wmf" ContentType="image/x-wmf"/>
  <Override PartName="/ppt/media/image26.jpeg" ContentType="image/jpeg"/>
  <Override PartName="/ppt/media/image6.jpeg" ContentType="image/jpeg"/>
  <Override PartName="/ppt/media/image27.jpeg" ContentType="image/jpeg"/>
  <Override PartName="/ppt/media/image7.gif" ContentType="image/gif"/>
  <Override PartName="/ppt/media/image2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6.jpeg" ContentType="image/jpeg"/>
  <Override PartName="/ppt/media/image13.gif" ContentType="image/gif"/>
  <Override PartName="/ppt/media/image30.wmf" ContentType="image/x-wmf"/>
  <Override PartName="/ppt/media/image4.gif" ContentType="image/gif"/>
  <Override PartName="/ppt/media/image1.jpeg" ContentType="image/jpeg"/>
  <Override PartName="/ppt/media/image22.jpeg" ContentType="image/jpeg"/>
  <Override PartName="/ppt/media/image33.png" ContentType="image/png"/>
  <Override PartName="/ppt/media/image3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14.jpeg" ContentType="image/jpeg"/>
  <Override PartName="/ppt/media/image19.gif" ContentType="image/gif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2E9-A1FB-4D09-99F6-BE4EF7ED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02AC-AEE8-4567-9665-E6D68FE2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283A-992A-4844-A694-F0E13D78B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ADB5-C5AA-48A2-A341-831FC389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FECF-96BF-40F6-AF9F-496F4AC6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579A-CDD6-4A2B-9597-70C6F15D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52D7-F79A-4F68-A422-E6FDC928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C5CC-4E0C-41B6-AE45-ACB8407A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A454-78C0-40BF-8022-9469208B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E92B-88AC-4BF6-A607-4B155DE9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D784-63B2-40E1-9601-283A684A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5DEE-AED3-4DE2-888D-CD23C3F7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38B3E-CFA0-4E2B-B273-38890357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FF2CA-2E49-4EF7-AE9B-C3A76714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EEDB-8F00-4079-8FA4-AD8CFC8D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56993-22A7-4BAB-9CFD-218AEB67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96D4E-2F22-4F99-B54B-A0B7C4155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7C5-B1AC-4527-A779-ADDDCC1C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1BA3-D3A9-4CAF-B474-52398637D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664-7D36-45B9-A1AA-C803791E1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34E4-1F7F-4E06-B870-0F1C5283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C823-0D9C-43D3-801E-A5863AD1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B1CE-2C75-4AB4-847A-7BDE5E6F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20F4-C781-4D9F-B5A2-C8C155CA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8E2F-1915-4233-88CA-60B96FF51323}" type="slidenum">
              <a:rPr b="0" lang="es-E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187C-15D3-4B42-976A-D5FE30264D70}" type="slidenum">
              <a:rPr b="0" lang="es-ES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ransportes%202.ppt" TargetMode="External"/><Relationship Id="rId2" Type="http://schemas.openxmlformats.org/officeDocument/2006/relationships/image" Target="../media/image7.gif"/><Relationship Id="rId3" Type="http://schemas.openxmlformats.org/officeDocument/2006/relationships/hyperlink" Target="file:///transportes%202.ppt" TargetMode="External"/><Relationship Id="rId4" Type="http://schemas.openxmlformats.org/officeDocument/2006/relationships/image" Target="../media/image12.jpeg"/><Relationship Id="rId5" Type="http://schemas.openxmlformats.org/officeDocument/2006/relationships/hyperlink" Target="file:///transportes%202.ppt" TargetMode="External"/><Relationship Id="rId6" Type="http://schemas.openxmlformats.org/officeDocument/2006/relationships/image" Target="../media/image6.jpeg"/><Relationship Id="rId7" Type="http://schemas.openxmlformats.org/officeDocument/2006/relationships/hyperlink" Target="file:///transportes%202.ppt" TargetMode="External"/><Relationship Id="rId8" Type="http://schemas.openxmlformats.org/officeDocument/2006/relationships/image" Target="../media/image9.jpeg"/><Relationship Id="rId9" Type="http://schemas.openxmlformats.org/officeDocument/2006/relationships/hyperlink" Target="file:///transportes%202.ppt" TargetMode="External"/><Relationship Id="rId10" Type="http://schemas.openxmlformats.org/officeDocument/2006/relationships/image" Target="../media/image14.jpeg"/><Relationship Id="rId11" Type="http://schemas.openxmlformats.org/officeDocument/2006/relationships/hyperlink" Target="file:///transportes%202.ppt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transportes%202.ppt" TargetMode="External"/><Relationship Id="rId2" Type="http://schemas.openxmlformats.org/officeDocument/2006/relationships/image" Target="../media/image7.gif"/><Relationship Id="rId3" Type="http://schemas.openxmlformats.org/officeDocument/2006/relationships/hyperlink" Target="file:///transportes%202.ppt" TargetMode="External"/><Relationship Id="rId4" Type="http://schemas.openxmlformats.org/officeDocument/2006/relationships/image" Target="../media/image12.jpeg"/><Relationship Id="rId5" Type="http://schemas.openxmlformats.org/officeDocument/2006/relationships/hyperlink" Target="file:///transportes%202.ppt" TargetMode="External"/><Relationship Id="rId6" Type="http://schemas.openxmlformats.org/officeDocument/2006/relationships/image" Target="../media/image14.jpeg"/><Relationship Id="rId7" Type="http://schemas.openxmlformats.org/officeDocument/2006/relationships/hyperlink" Target="file:///transportes%202.ppt" TargetMode="External"/><Relationship Id="rId8" Type="http://schemas.openxmlformats.org/officeDocument/2006/relationships/image" Target="../media/image6.jpeg"/><Relationship Id="rId9" Type="http://schemas.openxmlformats.org/officeDocument/2006/relationships/image" Target="../media/image11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32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4.jpeg"/><Relationship Id="rId3" Type="http://schemas.openxmlformats.org/officeDocument/2006/relationships/image" Target="../media/image4.gif"/><Relationship Id="rId4" Type="http://schemas.openxmlformats.org/officeDocument/2006/relationships/image" Target="../media/image32.jpeg"/><Relationship Id="rId5" Type="http://schemas.openxmlformats.org/officeDocument/2006/relationships/image" Target="../media/image19.gi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rs.yahoo.com/S=2114714014/K=COCHE/v=2/SID=w/l=IVI/;_ylt=AlWbcNoVRnQ4TbmMxzPFZUWe.Qt.;_ylu=X3oDMTA4NDgyNWN0BHNlYwNwcm9m/SIG=11u7kh6s4/EXP=1112275986/*-http%3A//www.rodpas.com.mx/collage/coche.JPG" TargetMode="External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hyperlink" Target="http://es.wrs.yahoo.com/S=2114714014/K=COCHE/v=2/SID=w/l=IVI/;_ylt=AlWbcNoVRnQ4TbmMxzPFZUWe.Qt.;_ylu=X3oDMTA4NDgyNWN0BHNlYwNwcm9m/SIG=11u7kh6s4/EXP=1112275986/*-http%3A//www.rodpas.com.mx/collage/coche.JPG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es.wrs.yahoo.com/S=2114714014/K=TRACTOR/v=2/SID=w/l=IVI/;_ylt=AlWbcNoVRnQ4TbmMxzPFZUWe.Qt.;_ylu=X3oDMTA4NDgyNWN0BHNlYwNwcm9m/SIG=12knok451/EXP=1112375483/*-http%3A//www.aad.gov.au/asset/images/300_ul-John_Deere_tractor.jpg" TargetMode="External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4.gif"/><Relationship Id="rId10" Type="http://schemas.openxmlformats.org/officeDocument/2006/relationships/image" Target="../media/image13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gif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295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e9"/>
                </a:solidFill>
                <a:latin typeface="Times New Roman"/>
              </a:rPr>
              <a:t>LOS TRANSPORT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599840" y="5105160"/>
            <a:ext cx="5715000" cy="46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imes New Roman"/>
              </a:rPr>
              <a:t>2º EDUCACIÓN PRIMARI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4" name="Picture 10" descr="C:\WINDOWS\Profiles\VERÓNICA\Application Data\Microsoft\Media Catalog\Downloaded Clips\cl86\j0336325.gif"/>
          <p:cNvPicPr/>
          <p:nvPr/>
        </p:nvPicPr>
        <p:blipFill>
          <a:blip r:embed="rId2"/>
          <a:stretch/>
        </p:blipFill>
        <p:spPr>
          <a:xfrm>
            <a:off x="5410080" y="3505320"/>
            <a:ext cx="3124440" cy="14176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C:\WINDOWS\Profiles\VERÓNICA\Application Data\Microsoft\Media Catalog\Downloaded Clips\cl7f\j0318090.gif"/>
          <p:cNvPicPr/>
          <p:nvPr/>
        </p:nvPicPr>
        <p:blipFill>
          <a:blip r:embed="rId3"/>
          <a:stretch/>
        </p:blipFill>
        <p:spPr>
          <a:xfrm>
            <a:off x="838080" y="228600"/>
            <a:ext cx="198144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92805"/>
                </a:solidFill>
                <a:latin typeface="Times New Roman"/>
              </a:rPr>
              <a:t>OTROS TRANSPORTES MARÍTIMOS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09480" y="3581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CANO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5" name="Picture 6" descr="Ampliar la imagen"/>
          <p:cNvPicPr/>
          <p:nvPr/>
        </p:nvPicPr>
        <p:blipFill>
          <a:blip r:embed="rId1"/>
          <a:stretch/>
        </p:blipFill>
        <p:spPr>
          <a:xfrm>
            <a:off x="6248520" y="4114800"/>
            <a:ext cx="2133360" cy="1587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6248520" y="571500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PIRAGU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7" name="Picture 11" descr="https://www.a-alvarez.com/tienda/img/productos/N100806.jpg"/>
          <p:cNvPicPr/>
          <p:nvPr/>
        </p:nvPicPr>
        <p:blipFill>
          <a:blip r:embed="rId2"/>
          <a:stretch/>
        </p:blipFill>
        <p:spPr>
          <a:xfrm>
            <a:off x="4267080" y="1828800"/>
            <a:ext cx="2819520" cy="15746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2"/>
          <p:cNvSpPr/>
          <p:nvPr/>
        </p:nvSpPr>
        <p:spPr>
          <a:xfrm>
            <a:off x="4267080" y="33526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BALS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9" name="Picture 14" descr="http://es.wrs.yahoo.com/S=2114714014/K=CANOA/v=2/SID=w/l=IVI/;_ylt=AuFtr2TGju324QSPWxBrvPKe.Qt.;_ylu=X3oDMTA4NDgyNWN0BHNlYwNwcm9m/SIG=127d126tu/EXP=1112531199/*-http%3A//www.comunecervia.it/turismo/photos/canoa.jpg"/>
          <p:cNvPicPr/>
          <p:nvPr/>
        </p:nvPicPr>
        <p:blipFill>
          <a:blip r:embed="rId3"/>
          <a:stretch/>
        </p:blipFill>
        <p:spPr>
          <a:xfrm>
            <a:off x="304920" y="1905120"/>
            <a:ext cx="2514600" cy="1682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" descr="NITRO"/>
          <p:cNvPicPr/>
          <p:nvPr/>
        </p:nvPicPr>
        <p:blipFill>
          <a:blip r:embed="rId4"/>
          <a:stretch/>
        </p:blipFill>
        <p:spPr>
          <a:xfrm>
            <a:off x="2133720" y="4191120"/>
            <a:ext cx="2514600" cy="1571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27"/>
          <p:cNvSpPr/>
          <p:nvPr/>
        </p:nvSpPr>
        <p:spPr>
          <a:xfrm>
            <a:off x="2209680" y="5638680"/>
            <a:ext cx="2210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3408f0"/>
                </a:solidFill>
                <a:latin typeface="Times New Roman"/>
              </a:rPr>
              <a:t>LANCHA MOTORA</a:t>
            </a:r>
            <a:endParaRPr b="0" lang="en-US" sz="3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3680" y="0"/>
            <a:ext cx="8050320" cy="104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92805"/>
                </a:solidFill>
                <a:latin typeface="Times New Roman"/>
              </a:rPr>
              <a:t>LOS TRANSPORTES PUEDEN SER: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3429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28880" indent="116640">
              <a:lnSpc>
                <a:spcPct val="90000"/>
              </a:lnSpc>
              <a:spcBef>
                <a:spcPts val="700"/>
              </a:spcBef>
              <a:buClr>
                <a:srgbClr val="00264c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imes New Roman"/>
              </a:rPr>
              <a:t>TRANSPORTES PÚBLICOS: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12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12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imes New Roman"/>
              </a:rPr>
              <a:t>PUEDEN SER UTILIZADOS POR TODAS LAS PERSONA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128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54" name="Picture 5" descr="C:\WINDOWS\Profiles\VERÓNICA\Application Data\Microsoft\Media Catalog\Downloaded Clips\cl4c\j0191845.wmf"/>
          <p:cNvPicPr/>
          <p:nvPr/>
        </p:nvPicPr>
        <p:blipFill>
          <a:blip r:embed="rId1"/>
          <a:stretch/>
        </p:blipFill>
        <p:spPr>
          <a:xfrm>
            <a:off x="5943600" y="4495680"/>
            <a:ext cx="2641680" cy="1924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C:\Archivos de programa\Microsoft Office\Clipart\Pub60Cor\TN00211_.wmf"/>
          <p:cNvPicPr/>
          <p:nvPr/>
        </p:nvPicPr>
        <p:blipFill>
          <a:blip r:embed="rId2"/>
          <a:stretch/>
        </p:blipFill>
        <p:spPr>
          <a:xfrm>
            <a:off x="228600" y="4876920"/>
            <a:ext cx="4314960" cy="17143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8"/>
          <p:cNvSpPr/>
          <p:nvPr/>
        </p:nvSpPr>
        <p:spPr>
          <a:xfrm>
            <a:off x="4800600" y="1752480"/>
            <a:ext cx="37339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98360">
              <a:spcBef>
                <a:spcPts val="1749"/>
              </a:spcBef>
              <a:buClr>
                <a:srgbClr val="00264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imes New Roman"/>
              </a:rPr>
              <a:t>TRANSPORTES PRIVADOS: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imes New Roman"/>
              </a:rPr>
              <a:t>LOS UTILIZAN LAS PERSONAS QUE LO HAN COMPRAD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7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7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7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75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5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33"/>
                </a:solidFill>
                <a:latin typeface="Times New Roman"/>
              </a:rPr>
              <a:t>¿CUÁLES DE ESTOS TRANSPORTES SON PÚBLICOS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58" name="Picture 5" descr="C:\WINDOWS\Profiles\VERÓNICA\Application Data\Microsoft\Media Catalog\Downloaded Clips\cl0\AG00165_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133720"/>
            <a:ext cx="2819160" cy="1057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Ampliar la image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1905120"/>
            <a:ext cx="2361960" cy="17618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http://www.rodpas.com.mx/collage/coche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520" y="4336920"/>
            <a:ext cx="2438280" cy="1729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Ampliar la image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7120" y="4114800"/>
            <a:ext cx="2305080" cy="1603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5" descr="Ampliar la imagen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6553080" y="1905120"/>
            <a:ext cx="2305080" cy="1536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http://www.aresa.es/cas/img/medi_cata_pr02_bicicleta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3352680" y="4255920"/>
            <a:ext cx="2644920" cy="15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333333"/>
                </a:solidFill>
                <a:latin typeface="Times New Roman"/>
              </a:rPr>
              <a:t>¿CUÁLES SON PRIVADOS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65" name="Picture 3" descr="C:\WINDOWS\Profiles\VERÓNICA\Application Data\Microsoft\Media Catalog\Downloaded Clips\cl0\AG00165_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2133720"/>
            <a:ext cx="2819160" cy="10573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Ampliar la image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1905120"/>
            <a:ext cx="2361960" cy="1761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Ampliar la imagen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553080" y="1905120"/>
            <a:ext cx="2305080" cy="15364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http://www.rodpas.com.mx/collage/coch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520" y="4336920"/>
            <a:ext cx="2438280" cy="172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7" descr="http://www.aresa.es/cas/img/medi_cata_pr02_bicicleta.jpg"/>
          <p:cNvPicPr/>
          <p:nvPr/>
        </p:nvPicPr>
        <p:blipFill>
          <a:blip r:embed="rId9"/>
          <a:stretch/>
        </p:blipFill>
        <p:spPr>
          <a:xfrm>
            <a:off x="3352680" y="4255920"/>
            <a:ext cx="2644920" cy="1532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Ampliar la imagen"/>
          <p:cNvPicPr/>
          <p:nvPr/>
        </p:nvPicPr>
        <p:blipFill>
          <a:blip r:embed="rId10"/>
          <a:stretch/>
        </p:blipFill>
        <p:spPr>
          <a:xfrm>
            <a:off x="6477120" y="4114800"/>
            <a:ext cx="23050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92805"/>
                </a:solidFill>
                <a:latin typeface="Times New Roman"/>
              </a:rPr>
              <a:t>PERO...</a:t>
            </a:r>
            <a:r>
              <a:rPr b="0" lang="es-ES_tradnl" sz="4400" spc="-1" strike="noStrike">
                <a:solidFill>
                  <a:srgbClr val="f92805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00264c"/>
                </a:solidFill>
                <a:latin typeface="Times New Roman"/>
              </a:rPr>
              <a:t>Los transportes también se pueden agrupar en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imes New Roman"/>
              </a:rPr>
              <a:t>ÚRBANOS: se utilizan para desplazarse en los pueblos o ciudades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73" name="Picture 4" descr="C:\Archivos de programa\Microsoft Office\Clipart\Pub60Cor\TN00211_.wmf"/>
          <p:cNvPicPr/>
          <p:nvPr/>
        </p:nvPicPr>
        <p:blipFill>
          <a:blip r:embed="rId1"/>
          <a:stretch/>
        </p:blipFill>
        <p:spPr>
          <a:xfrm>
            <a:off x="5410080" y="3276720"/>
            <a:ext cx="2867040" cy="11397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http://www.aad.gov.au/asset/images/300_ul-John_Deere_tractor.jpg"/>
          <p:cNvPicPr/>
          <p:nvPr/>
        </p:nvPicPr>
        <p:blipFill>
          <a:blip r:embed="rId2"/>
          <a:stretch/>
        </p:blipFill>
        <p:spPr>
          <a:xfrm>
            <a:off x="533520" y="4876920"/>
            <a:ext cx="1501560" cy="16952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9"/>
          <p:cNvSpPr/>
          <p:nvPr/>
        </p:nvSpPr>
        <p:spPr>
          <a:xfrm>
            <a:off x="609480" y="4267080"/>
            <a:ext cx="6112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613080" y="4267080"/>
            <a:ext cx="78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264c"/>
                </a:solidFill>
                <a:latin typeface="Times New Roman"/>
              </a:rPr>
              <a:t>RURALES: se utilizan para trabajar en el campo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C:\WINDOWS\Profiles\VERÓNICA\Application Data\Microsoft\Media Catalog\Downloaded Clips\cl86\j0336590.gif"/>
          <p:cNvPicPr/>
          <p:nvPr/>
        </p:nvPicPr>
        <p:blipFill>
          <a:blip r:embed="rId1"/>
          <a:stretch/>
        </p:blipFill>
        <p:spPr>
          <a:xfrm>
            <a:off x="3276720" y="4272120"/>
            <a:ext cx="2514600" cy="198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Ampliar la imagen"/>
          <p:cNvPicPr/>
          <p:nvPr/>
        </p:nvPicPr>
        <p:blipFill>
          <a:blip r:embed="rId2"/>
          <a:stretch/>
        </p:blipFill>
        <p:spPr>
          <a:xfrm>
            <a:off x="380880" y="220968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00264c"/>
                </a:solidFill>
                <a:latin typeface="Times New Roman"/>
              </a:rPr>
              <a:t>¿CÓMO SON ESTOS TRANSPORTES?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0" name="Picture 14" descr="http://www.aad.gov.au/asset/images/300_ul-John_Deere_tractor.jpg"/>
          <p:cNvPicPr/>
          <p:nvPr/>
        </p:nvPicPr>
        <p:blipFill>
          <a:blip r:embed="rId3"/>
          <a:stretch/>
        </p:blipFill>
        <p:spPr>
          <a:xfrm>
            <a:off x="6302520" y="2286000"/>
            <a:ext cx="2361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33"/>
                </a:solidFill>
                <a:latin typeface="Times New Roman"/>
              </a:rPr>
              <a:t>SEÑALA LOS MEDIOS DE TRANSPORTE MARÍTIMO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82" name="Picture 3" descr="http://www.rodpas.com.mx/collage/coche.JPG"/>
          <p:cNvPicPr/>
          <p:nvPr/>
        </p:nvPicPr>
        <p:blipFill>
          <a:blip r:embed="rId1"/>
          <a:stretch/>
        </p:blipFill>
        <p:spPr>
          <a:xfrm>
            <a:off x="380880" y="4724280"/>
            <a:ext cx="2438640" cy="17290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Ampliar la imagen"/>
          <p:cNvPicPr/>
          <p:nvPr/>
        </p:nvPicPr>
        <p:blipFill>
          <a:blip r:embed="rId2"/>
          <a:stretch/>
        </p:blipFill>
        <p:spPr>
          <a:xfrm>
            <a:off x="3657600" y="4267080"/>
            <a:ext cx="1657440" cy="2133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C:\WINDOWS\Profiles\VERÓNICA\Application Data\Microsoft\Media Catalog\Downloaded Clips\cl86\j0336325.gif"/>
          <p:cNvPicPr/>
          <p:nvPr/>
        </p:nvPicPr>
        <p:blipFill>
          <a:blip r:embed="rId3"/>
          <a:stretch/>
        </p:blipFill>
        <p:spPr>
          <a:xfrm>
            <a:off x="2971800" y="2362320"/>
            <a:ext cx="2781360" cy="12618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Ampliar la imagen"/>
          <p:cNvPicPr/>
          <p:nvPr/>
        </p:nvPicPr>
        <p:blipFill>
          <a:blip r:embed="rId4"/>
          <a:stretch/>
        </p:blipFill>
        <p:spPr>
          <a:xfrm>
            <a:off x="380880" y="22096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WINDOWS\Profiles\VERÓNICA\Application Data\Microsoft\Media Catalog\Downloaded Clips\cl86\j0336590.gif"/>
          <p:cNvPicPr/>
          <p:nvPr/>
        </p:nvPicPr>
        <p:blipFill>
          <a:blip r:embed="rId5"/>
          <a:stretch/>
        </p:blipFill>
        <p:spPr>
          <a:xfrm>
            <a:off x="6477120" y="4343400"/>
            <a:ext cx="1981080" cy="1560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C:\WINDOWS\Profiles\VERÓNICA\Application Data\Microsoft\Media Catalog\Downloaded Clips\cl73\j0289282.jpg"/>
          <p:cNvPicPr/>
          <p:nvPr/>
        </p:nvPicPr>
        <p:blipFill>
          <a:blip r:embed="rId6"/>
          <a:stretch/>
        </p:blipFill>
        <p:spPr>
          <a:xfrm>
            <a:off x="6248520" y="1981080"/>
            <a:ext cx="24382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92805"/>
                </a:solidFill>
                <a:latin typeface="Times New Roman"/>
              </a:rPr>
              <a:t>NORMAS DE RESPETO EN EL TRANSPORTE PÚBLICO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264c"/>
                </a:solidFill>
                <a:latin typeface="Times New Roman"/>
              </a:rPr>
              <a:t>PARA SUBIR O BAJAR, ESPERAR A QUE SE PARE DEL TODO.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264c"/>
                </a:solidFill>
                <a:latin typeface="Times New Roman"/>
              </a:rPr>
              <a:t>NO IMPEDIR EL PASO A LA GENTE POR EL PASILLO.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264c"/>
                </a:solidFill>
                <a:latin typeface="Times New Roman"/>
              </a:rPr>
              <a:t>NO SACAR LA CABEZA O BRAZOS POR LA VENTANILLA.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264c"/>
                </a:solidFill>
                <a:latin typeface="Times New Roman"/>
              </a:rPr>
              <a:t>NO MOLESTAR AL CONDUCTOR.</a:t>
            </a:r>
            <a:endParaRPr b="0" lang="en-US" sz="40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1" dur="75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6" dur="75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1" dur="75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6" dur="75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33"/>
                </a:solidFill>
                <a:latin typeface="Times New Roman"/>
              </a:rPr>
              <a:t>ACTIVIDADES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s-ES_tradnl" sz="4600" spc="-1" strike="noStrike">
                <a:solidFill>
                  <a:srgbClr val="00264c"/>
                </a:solidFill>
                <a:latin typeface="Times New Roman"/>
              </a:rPr>
              <a:t>LIBRO DE CONOCIMIENTO DEL MEDIO. PÁGINA 111.</a:t>
            </a:r>
            <a:endParaRPr b="0" lang="en-US" sz="4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92805"/>
                </a:solidFill>
                <a:latin typeface="Times New Roman"/>
              </a:rPr>
              <a:t>¿QUÉ VAMOS A APRENDER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imes New Roman"/>
              </a:rPr>
              <a:t>TRANSPORTES TERRESTRES, AÉREOS Y MARÍTIM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imes New Roman"/>
              </a:rPr>
              <a:t>TRANSPORTES PÚBLICOS Y PRIVADO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imes New Roman"/>
              </a:rPr>
              <a:t>TRANSPORTES URBANOS Y RURALES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imes New Roman"/>
              </a:rPr>
              <a:t>NORMAS DE RESPETO EN EL TRANSPORTE PÚBLICO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2824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92805"/>
                </a:solidFill>
                <a:latin typeface="Times New Roman"/>
              </a:rPr>
              <a:t>¿QUÉ SON LOS TRANSPORTES?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00264c"/>
                </a:solidFill>
                <a:latin typeface="Times New Roman"/>
              </a:rPr>
              <a:t>  </a:t>
            </a:r>
            <a:r>
              <a:rPr b="0" lang="es-ES_tradnl" sz="7200" spc="-1" strike="noStrike">
                <a:solidFill>
                  <a:srgbClr val="00264c"/>
                </a:solidFill>
                <a:latin typeface="Times New Roman"/>
              </a:rPr>
              <a:t>Los transportes los utilizamos para movernos por la localidad.</a:t>
            </a:r>
            <a:endParaRPr b="0" lang="en-US" sz="7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92805"/>
                </a:solidFill>
                <a:latin typeface="Times New Roman"/>
              </a:rPr>
              <a:t>¿QUÉ CONOCES DE ESTOS TRANSPORTES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1" name="Picture 3" descr="http://www.rodpas.com.mx/collage/coch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057400"/>
            <a:ext cx="2210040" cy="1565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WINDOWS\Profiles\VERÓNICA\Application Data\Microsoft\Media Catalog\Downloaded Clips\cl0\AG00165_.gif"/>
          <p:cNvPicPr/>
          <p:nvPr/>
        </p:nvPicPr>
        <p:blipFill>
          <a:blip r:embed="rId3"/>
          <a:stretch/>
        </p:blipFill>
        <p:spPr>
          <a:xfrm>
            <a:off x="4648320" y="3276720"/>
            <a:ext cx="3581280" cy="1342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C:\WINDOWS\Profiles\VERÓNICA\Application Data\Microsoft\Media Catalog\Downloaded Clips\cl73\j0289282.jpg"/>
          <p:cNvPicPr/>
          <p:nvPr/>
        </p:nvPicPr>
        <p:blipFill>
          <a:blip r:embed="rId4"/>
          <a:stretch/>
        </p:blipFill>
        <p:spPr>
          <a:xfrm>
            <a:off x="533520" y="4648320"/>
            <a:ext cx="26668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6694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92805"/>
                </a:solidFill>
                <a:latin typeface="Times New Roman"/>
              </a:rPr>
              <a:t>TRANSPORTES TERRESTRES:</a:t>
            </a:r>
            <a:endParaRPr b="0" lang="en-US" sz="4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imes New Roman"/>
              </a:rPr>
              <a:t>SON LOS QUE CIRCULAN POR LA TIERRA. POR EJEMPLO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6" name="Picture 4" descr="Ampliar la imagen"/>
          <p:cNvPicPr/>
          <p:nvPr/>
        </p:nvPicPr>
        <p:blipFill>
          <a:blip r:embed="rId2"/>
          <a:stretch/>
        </p:blipFill>
        <p:spPr>
          <a:xfrm>
            <a:off x="7086600" y="4876920"/>
            <a:ext cx="2057400" cy="1430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http://www.rodpas.com.mx/collage/coch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4952880"/>
            <a:ext cx="1828800" cy="1295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http://www.aad.gov.au/asset/images/300_ul-John_Deere_tracto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38280" y="4800600"/>
            <a:ext cx="1501920" cy="1695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http://www.aresa.es/cas/img/medi_cata_pr02_bicicleta.jpg"/>
          <p:cNvPicPr/>
          <p:nvPr/>
        </p:nvPicPr>
        <p:blipFill>
          <a:blip r:embed="rId7"/>
          <a:stretch/>
        </p:blipFill>
        <p:spPr>
          <a:xfrm>
            <a:off x="304920" y="3124080"/>
            <a:ext cx="1981080" cy="11480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Ampliar la imagen"/>
          <p:cNvPicPr/>
          <p:nvPr/>
        </p:nvPicPr>
        <p:blipFill>
          <a:blip r:embed="rId8"/>
          <a:stretch/>
        </p:blipFill>
        <p:spPr>
          <a:xfrm>
            <a:off x="6095880" y="2743200"/>
            <a:ext cx="2210040" cy="1647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C:\WINDOWS\Profiles\VERÓNICA\Application Data\Microsoft\Media Catalog\Downloaded Clips\cl86\j0336325.gif"/>
          <p:cNvPicPr/>
          <p:nvPr/>
        </p:nvPicPr>
        <p:blipFill>
          <a:blip r:embed="rId9"/>
          <a:stretch/>
        </p:blipFill>
        <p:spPr>
          <a:xfrm>
            <a:off x="2971800" y="3124080"/>
            <a:ext cx="2438280" cy="1106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C:\WINDOWS\Profiles\VERÓNICA\Application Data\Microsoft\Media Catalog\Downloaded Clips\cl86\j0336322.gif"/>
          <p:cNvPicPr/>
          <p:nvPr/>
        </p:nvPicPr>
        <p:blipFill>
          <a:blip r:embed="rId10"/>
          <a:stretch/>
        </p:blipFill>
        <p:spPr>
          <a:xfrm>
            <a:off x="4267080" y="5105520"/>
            <a:ext cx="2454480" cy="109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3320" y="283680"/>
            <a:ext cx="7745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92805"/>
                </a:solidFill>
                <a:latin typeface="Times New Roman"/>
              </a:rPr>
              <a:t>OTROS TRANSPORTES TERRESTRES SON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609480" y="36576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TRANVÍ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5" name="Picture 6" descr="Ampliar la imagen"/>
          <p:cNvPicPr/>
          <p:nvPr/>
        </p:nvPicPr>
        <p:blipFill>
          <a:blip r:embed="rId1"/>
          <a:stretch/>
        </p:blipFill>
        <p:spPr>
          <a:xfrm>
            <a:off x="6172200" y="4267080"/>
            <a:ext cx="2438280" cy="1625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6934320" y="59436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TAXI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7" name="Picture 9" descr="Ampliar la imagen"/>
          <p:cNvPicPr/>
          <p:nvPr/>
        </p:nvPicPr>
        <p:blipFill>
          <a:blip r:embed="rId2"/>
          <a:stretch/>
        </p:blipFill>
        <p:spPr>
          <a:xfrm>
            <a:off x="533520" y="4419720"/>
            <a:ext cx="2590560" cy="17208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762120" y="60199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METR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9" name="Picture 12" descr="Ampliar la imagen"/>
          <p:cNvPicPr/>
          <p:nvPr/>
        </p:nvPicPr>
        <p:blipFill>
          <a:blip r:embed="rId3"/>
          <a:stretch/>
        </p:blipFill>
        <p:spPr>
          <a:xfrm>
            <a:off x="3657600" y="4191120"/>
            <a:ext cx="1871640" cy="19047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3"/>
          <p:cNvSpPr/>
          <p:nvPr/>
        </p:nvSpPr>
        <p:spPr>
          <a:xfrm>
            <a:off x="3505320" y="6019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PATINET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21" name="Picture 21" descr="http://es.wrs.yahoo.com/S=2114714014/K=MONORRAIL/v=2/SID=w/l=IVI/;_ylt=AuFtr2TGju324QSPWxBrvPKe.Qt.;_ylu=X3oDMTA4NDgyNWN0BHNlYwNwcm9m/SIG=12a5qeuqp/EXP=1112379446/*-http%3A//www.cps.unizar.es/~transp/Ferrocarriles/f14.gif"/>
          <p:cNvPicPr/>
          <p:nvPr/>
        </p:nvPicPr>
        <p:blipFill>
          <a:blip r:embed="rId4"/>
          <a:stretch/>
        </p:blipFill>
        <p:spPr>
          <a:xfrm>
            <a:off x="4800600" y="1828800"/>
            <a:ext cx="3048120" cy="18194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22"/>
          <p:cNvSpPr/>
          <p:nvPr/>
        </p:nvSpPr>
        <p:spPr>
          <a:xfrm>
            <a:off x="4952880" y="3657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MONORRAÍ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23" name="Picture 24" descr="http://es.wrs.yahoo.com/S=2114714014/K=TRANVIA/v=2/SID=w/l=IVI/;_ylt=AuFtr2TGju324QSPWxBrvPKe.Qt.;_ylu=X3oDMTA4NDgyNWN0BHNlYwNwcm9m/SIG=12kb3igsn/EXP=1112543350/*-http%3A//www.cuerpo8.es/STOL/reportajes/imgtrenesrenfe/Tranvia.jpg"/>
          <p:cNvPicPr/>
          <p:nvPr/>
        </p:nvPicPr>
        <p:blipFill>
          <a:blip r:embed="rId5"/>
          <a:stretch/>
        </p:blipFill>
        <p:spPr>
          <a:xfrm>
            <a:off x="685800" y="1828800"/>
            <a:ext cx="28954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92805"/>
                </a:solidFill>
                <a:latin typeface="Times New Roman"/>
              </a:rPr>
              <a:t>TRANSPORTES AÉREOS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264c"/>
                </a:solidFill>
                <a:latin typeface="Times New Roman"/>
              </a:rPr>
              <a:t>SON AQUELLOS QUE VAN POR EL AIRE. POR EJEMPLO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26" name="Picture 4" descr="C:\WINDOWS\Profiles\VERÓNICA\Application Data\Microsoft\Media Catalog\Downloaded Clips\cl0\AG00165_.gif"/>
          <p:cNvPicPr/>
          <p:nvPr/>
        </p:nvPicPr>
        <p:blipFill>
          <a:blip r:embed="rId2"/>
          <a:stretch/>
        </p:blipFill>
        <p:spPr>
          <a:xfrm>
            <a:off x="5562720" y="3124080"/>
            <a:ext cx="2819160" cy="1057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:\WINDOWS\Profiles\VERÓNICA\Application Data\Microsoft\Media Catalog\Downloaded Clips\cl86\j0336590.gif"/>
          <p:cNvPicPr/>
          <p:nvPr/>
        </p:nvPicPr>
        <p:blipFill>
          <a:blip r:embed="rId3"/>
          <a:stretch/>
        </p:blipFill>
        <p:spPr>
          <a:xfrm>
            <a:off x="304920" y="5257800"/>
            <a:ext cx="1752480" cy="1380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Ampliar la imagen"/>
          <p:cNvPicPr/>
          <p:nvPr/>
        </p:nvPicPr>
        <p:blipFill>
          <a:blip r:embed="rId4"/>
          <a:stretch/>
        </p:blipFill>
        <p:spPr>
          <a:xfrm>
            <a:off x="4572000" y="4495680"/>
            <a:ext cx="1612800" cy="2133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Ampliar la imagen"/>
          <p:cNvPicPr/>
          <p:nvPr/>
        </p:nvPicPr>
        <p:blipFill>
          <a:blip r:embed="rId5"/>
          <a:stretch/>
        </p:blipFill>
        <p:spPr>
          <a:xfrm>
            <a:off x="2133720" y="3124080"/>
            <a:ext cx="1528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9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92805"/>
                </a:solidFill>
                <a:latin typeface="Times New Roman"/>
              </a:rPr>
              <a:t>OTROS TRANSPORTES AÉREOS: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1" name="Picture 3" descr="Ampliar la imagen"/>
          <p:cNvPicPr/>
          <p:nvPr/>
        </p:nvPicPr>
        <p:blipFill>
          <a:blip r:embed="rId1"/>
          <a:stretch/>
        </p:blipFill>
        <p:spPr>
          <a:xfrm>
            <a:off x="5029200" y="4419720"/>
            <a:ext cx="2705040" cy="1936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Ampliar la imagen"/>
          <p:cNvPicPr/>
          <p:nvPr/>
        </p:nvPicPr>
        <p:blipFill>
          <a:blip r:embed="rId2"/>
          <a:stretch/>
        </p:blipFill>
        <p:spPr>
          <a:xfrm>
            <a:off x="609480" y="2057400"/>
            <a:ext cx="2286000" cy="1682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124080" y="220968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ALA DELTA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514600" y="54864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DIRIGIBLE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92805"/>
                </a:solidFill>
                <a:latin typeface="Times New Roman"/>
              </a:rPr>
              <a:t>TRANSPORTES MARÍTIMOS: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264c"/>
                </a:solidFill>
                <a:latin typeface="Times New Roman"/>
              </a:rPr>
              <a:t>SON AQUELLOS QUE VAN POR EL AGUA. POR EJEMPLO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3200400" y="5410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SUBMARIN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553080" y="541008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VELER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609480" y="54100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408f0"/>
                </a:solidFill>
                <a:latin typeface="Times New Roman"/>
              </a:rPr>
              <a:t>BARCO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40" name="Picture 12" descr="Ampliar la imagen"/>
          <p:cNvPicPr/>
          <p:nvPr/>
        </p:nvPicPr>
        <p:blipFill>
          <a:blip r:embed="rId2"/>
          <a:stretch/>
        </p:blipFill>
        <p:spPr>
          <a:xfrm>
            <a:off x="6705720" y="3276720"/>
            <a:ext cx="1657080" cy="2133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5" descr="http://www.mgar.net/mar/images/submari2.jpg"/>
          <p:cNvPicPr/>
          <p:nvPr/>
        </p:nvPicPr>
        <p:blipFill>
          <a:blip r:embed="rId3"/>
          <a:stretch/>
        </p:blipFill>
        <p:spPr>
          <a:xfrm>
            <a:off x="3124080" y="3429000"/>
            <a:ext cx="2971800" cy="1835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6" descr="C:\WINDOWS\Profiles\VERÓNICA\Application Data\Microsoft\Media Catalog\Downloaded Clips\cl73\j0289282.jpg"/>
          <p:cNvPicPr/>
          <p:nvPr/>
        </p:nvPicPr>
        <p:blipFill>
          <a:blip r:embed="rId4"/>
          <a:stretch/>
        </p:blipFill>
        <p:spPr>
          <a:xfrm>
            <a:off x="228600" y="3505320"/>
            <a:ext cx="26668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0" dur="3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3:18:00Z</dcterms:created>
  <dc:creator>USUARIO</dc:creator>
  <dc:description/>
  <dc:language>en-US</dc:language>
  <cp:lastModifiedBy>Inglés</cp:lastModifiedBy>
  <dcterms:modified xsi:type="dcterms:W3CDTF">2010-06-11T09:05:42Z</dcterms:modified>
  <cp:revision>24</cp:revision>
  <dc:subject/>
  <dc:title>LOS TRANSPORTES</dc:title>
</cp:coreProperties>
</file>